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D5246-4269-48D6-8185-76059D5C6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add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FBA3-BC92-4297-98D5-6F76A3EB8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1F02-6A86-4896-BE3E-733397456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4067-8426-46DF-AE6F-53ED7D4AC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2725-6B6D-4209-BC68-0F1192986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F1E8-2855-419B-B56C-23168352E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7490-66A1-4B4A-9339-28C09E8D5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7CC2-BBFD-4E48-87DE-55F899E20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C1C8-EB96-45BE-92FC-FD9034012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FF1A-BFD4-45B4-944D-C3F8D522E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60EF-96B6-41CE-B3DD-56D2E659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8C21-D69D-4671-B019-4ACCA59D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0813-42BC-4119-B1BF-9F5BD41D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6083-4771-494F-A497-6D23F13C5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freeplaymusic.com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781680" y="5105520"/>
            <a:ext cx="2057400" cy="16200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Amanda 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5/11/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Period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Computer # 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3520" y="4419720"/>
            <a:ext cx="1904760" cy="220968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  <p:sp>
        <p:nvSpPr>
          <p:cNvPr id="50" name=""/>
          <p:cNvSpPr txBox="1"/>
          <p:nvPr/>
        </p:nvSpPr>
        <p:spPr>
          <a:xfrm rot="444600">
            <a:off x="2360520" y="904680"/>
            <a:ext cx="519768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link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3352680" y="5638680"/>
            <a:ext cx="3338280" cy="3988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nted by: Richard J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648320" y="5181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514600" y="6107040"/>
            <a:ext cx="38098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36440" y="316080"/>
            <a:ext cx="2454480" cy="1618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ic: Free Play Music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heerfu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/1/11,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freeplaymusic.com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3.46821E-007 C 0.00191 -0.03052 0.00538 -0.05664 0.01424 -0.08462 C 0.01927 -0.10034 0.02222 -0.11884 0.03177 -0.13109 C 0.03386 -0.14797 0.03507 -0.14774 0.04132 -0.16277 C 0.04583 -0.17387 0.04861 -0.18612 0.05399 -0.19676 C 0.05851 -0.21479 0.07309 -0.24346 0.08733 -0.24948 C 0.09497 -0.25757 0.10174 -0.26127 0.11111 -0.26427 C 0.11892 -0.27075 0.11754 -0.27098 0.12535 -0.27283 C 0.13177 -0.27445 0.14445 -0.27699 0.14445 -0.27699 C 0.15556 -0.28185 0.1658 -0.28208 0.17778 -0.28346 C 0.20833 -0.28185 0.21927 -0.2793 0.24601 -0.27098 C 0.26007 -0.26127 0.27309 -0.25202 0.28403 -0.23676 C 0.28646 -0.2282 0.29132 -0.22682 0.29514 -0.21988 C 0.30295 -0.20555 0.29757 -0.21387 0.30313 -0.19884 C 0.30469 -0.19468 0.30625 -0.19029 0.30799 -0.18612 C 0.3099 -0.18173 0.31424 -0.17341 0.31424 -0.17341 C 0.3217 -0.1341 0.31528 -0.04254 0.30313 0.00625 C 0.30434 -0.02242 0.30104 -0.05757 0.30955 -0.08462 C 0.31684 -0.10797 0.325 -0.13318 0.33802 -0.15237 C 0.35122 -0.17179 0.36563 -0.18543 0.3809 -0.20092 C 0.3875 -0.20763 0.39306 -0.21595 0.4 -0.22196 C 0.40747 -0.22844 0.41545 -0.23352 0.42222 -0.24115 C 0.43108 -0.25156 0.43316 -0.25479 0.44288 -0.26242 C 0.46215 -0.27676 0.48229 -0.28809 0.50313 -0.29849 C 0.51771 -0.29687 0.53368 -0.29687 0.54757 -0.28994 C 0.55434 -0.28601 0.55955 -0.28161 0.56667 -0.27907 C 0.58177 -0.26913 0.59531 -0.25757 0.60955 -0.24531 C 0.61476 -0.24092 0.62205 -0.23768 0.62691 -0.2326 C 0.63212 -0.22705 0.64306 -0.21433 0.64757 -0.20716 C 0.65695 -0.19237 0.65799 -0.18959 0.66511 -0.17549 C 0.66788 -0.16994 0.67292 -0.15861 0.67292 -0.15861 C 0.67587 -0.14427 0.68073 -0.12948 0.68576 -0.1163 C 0.68611 -0.11121 0.68837 -0.07144 0.69045 -0.06774 C 0.69219 -0.0645 0.69462 -0.07375 0.69688 -0.0763 C 0.71372 -0.09595 0.69514 -0.07098 0.70625 -0.08878 C 0.72031 -0.11121 0.72552 -0.13572 0.73333 -0.16277 C 0.73576 -0.1956 0.73837 -0.22959 0.74288 -0.26242 C 0.74757 -0.29641 0.74479 -0.25757 0.74757 -0.29179 C 0.75104 -0.33618 0.75261 -0.38034 0.75399 -0.42497 C 0.75295 -0.46242 0.75521 -0.51815 0.73802 -0.5519 C 0.73611 -0.56161 0.73264 -0.57109 0.72847 -0.57942 C 0.72535 -0.5919 0.72934 -0.58011 0.72222 -0.58982 C 0.71875 -0.59468 0.71632 -0.60185 0.71267 -0.6067 C 0.70747 -0.61387 0.69896 -0.62289 0.69201 -0.62589 C 0.67535 -0.64254 0.66094 -0.65086 0.64132 -0.65965 C 0.63229 -0.65896 0.62309 -0.65988 0.61424 -0.65757 C 0.6092 -0.65618 0.60799 -0.64693 0.60313 -0.64693 E">
                                      <p:cBhvr>
                                        <p:cTn id="6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52 -0.01063 -0.00035 -0.02127 -0.00156 -0.03167 C -0.00191 -0.03537 -0.00364 -0.03884 -0.00469 -0.04231 C -0.01371 -0.07491 -0.02673 -0.08693 -0.04913 -0.09942 C -0.0618 -0.10659 -0.07361 -0.1126 -0.08715 -0.1163 C -0.0993 -0.1156 -0.11163 -0.11607 -0.12378 -0.11422 C -0.12604 -0.11375 -0.12778 -0.11098 -0.13003 -0.10982 C -0.14149 -0.10358 -0.15434 -0.09872 -0.16337 -0.0867 C -0.17552 -0.07052 -0.18472 -0.0504 -0.1967 -0.03375 C -0.19774 -0.02774 -0.19878 -0.01919 -0.20156 -0.02104 C -0.20364 -0.02242 -0.2033 -0.02705 -0.20469 -0.02959 C -0.20937 -0.03861 -0.20937 -0.0326 -0.21267 -0.04231 C -0.22326 -0.07306 -0.21441 -0.05456 -0.22222 -0.06982 C -0.22656 -0.08716 -0.22361 -0.07861 -0.2316 -0.09503 C -0.23281 -0.09734 -0.23906 -0.11491 -0.24114 -0.12046 C -0.24514 -0.13133 -0.25139 -0.14081 -0.25712 -0.15005 C -0.25833 -0.1519 -0.25885 -0.15468 -0.26024 -0.1563 C -0.26094 -0.15699 -0.2691 -0.16046 -0.26979 -0.16069 C -0.29357 -0.16 -0.31736 -0.16 -0.34114 -0.15861 C -0.35225 -0.15792 -0.36007 -0.13479 -0.36493 -0.12462 C -0.38021 -0.09271 -0.38906 -0.05664 -0.40469 -0.02543 C -0.40677 -0.03653 -0.40989 -0.04508 -0.41423 -0.05503 C -0.41614 -0.05942 -0.4184 -0.06335 -0.42048 -0.06751 C -0.42222 -0.07098 -0.42535 -0.07815 -0.42535 -0.07815 C -0.42882 -0.09687 -0.42378 -0.07607 -0.43333 -0.09503 C -0.43958 -0.10751 -0.43646 -0.11005 -0.446 -0.12254 C -0.4533 -0.14242 -0.4618 -0.16508 -0.47604 -0.17757 C -0.4835 -0.1919 -0.49757 -0.19144 -0.50937 -0.19653 C -0.52899 -0.20485 -0.54774 -0.21109 -0.56823 -0.21549 C -0.61649 -0.21318 -0.60121 -0.21641 -0.6316 -0.203 C -0.63403 -0.19977 -0.6375 -0.19792 -0.63958 -0.19445 C -0.64062 -0.19283 -0.6401 -0.18982 -0.64114 -0.1882 C -0.64896 -0.17479 -0.6592 -0.16393 -0.66666 -0.15005 C -0.67187 -0.14057 -0.67396 -0.12994 -0.67934 -0.12046 C -0.6816 -0.11121 -0.68524 -0.09988 -0.69045 -0.09294 E">
                                      <p:cBhvr>
                                        <p:cTn id="10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Slinky"/>
          <p:cNvPicPr/>
          <p:nvPr/>
        </p:nvPicPr>
        <p:blipFill>
          <a:blip r:embed="rId1"/>
          <a:stretch/>
        </p:blipFill>
        <p:spPr>
          <a:xfrm>
            <a:off x="1371600" y="228600"/>
            <a:ext cx="6553080" cy="5111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1523520" y="5638680"/>
            <a:ext cx="5706720" cy="703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emelson MIT Program,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Richard Jam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5/16/11,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http://web.mit.edu/invent/iow/slinky.htm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5E-006 3.4104E-006 C 0.00105 -0.00417 0.00278 -0.0081 0.00313 -0.01249 C 0.00365 -0.01896 0.00313 -0.02567 0.00469 -0.03168 C 0.00539 -0.03446 0.00799 -0.03561 0.00938 -0.03792 C 0.01442 -0.04602 0.01563 -0.0481 0.02379 -0.05064 C 0.029 -0.05526 0.03351 -0.05688 0.03959 -0.0592 C 0.04324 -0.05781 0.04723 -0.05688 0.0507 -0.0548 C 0.05747 -0.05064 0.07205 -0.03006 0.07935 -0.02104 C 0.08594 -0.00301 0.09289 0.00948 0.09671 0.02959 C 0.09619 0.04231 0.09636 0.05502 0.09514 0.06774 C 0.0948 0.07213 0.09393 0.07676 0.09202 0.08046 C 0.08994 0.08462 0.0856 0.09317 0.0856 0.09317 C 0.08351 0.10173 0.08091 0.10589 0.07605 0.11213 C 0.02917 0.10959 0.04896 0.11237 0.02535 0.10358 C 0.01598 0.09549 0.00504 0.0904 -0.00329 0.08046 C -0.02083 0.05919 -0.04201 0.03098 -0.06197 0.01479 C -0.06805 0.00254 -0.07569 -0.00417 -0.0842 -0.01249 C -0.11076 -0.03862 -0.08836 -0.02197 -0.11597 -0.04 C -0.13854 -0.0548 -0.10676 -0.03931 -0.12864 -0.05064 C -0.13871 -0.05596 -0.1493 -0.06058 -0.15885 -0.06752 C -0.16215 -0.07006 -0.16475 -0.07422 -0.1684 -0.07607 C -0.17291 -0.07839 -0.17795 -0.07862 -0.18263 -0.08024 C -0.20676 -0.08902 -0.22881 -0.0918 -0.25399 -0.09503 C -0.2842 -0.10289 -0.31232 -0.0992 -0.34288 -0.09711 C -0.35416 -0.0955 -0.3651 -0.09388 -0.37621 -0.09087 C -0.38663 -0.08486 -0.39722 -0.0807 -0.40798 -0.07607 C -0.4177 -0.0659 -0.43159 -0.05503 -0.43819 -0.04 C -0.44166 -0.03214 -0.44409 -0.02498 -0.44617 -0.01688 C -0.44722 -0.01272 -0.4493 -0.00417 -0.4493 -0.00417 C -0.44826 0.01711 -0.45017 0.0437 -0.43506 0.05711 C -0.43072 0.07098 -0.42586 0.07329 -0.41753 0.08254 C -0.40242 0.09942 -0.38628 0.11329 -0.36666 0.11838 C -0.34531 0.13317 -0.33107 0.12786 -0.3144 0.11005 C -0.31058 0.09433 -0.31597 0.11306 -0.30173 0.08878 C -0.29652 0.08 -0.29253 0.07028 -0.28732 0.0615 C -0.28558 0.05179 -0.28263 0.04393 -0.28107 0.03398 C -0.28124 0.02589 -0.2809 -0.01341 -0.2842 -0.03168 C -0.29253 -0.07723 -0.32534 -0.12324 -0.36041 -0.13087 C -0.36614 -0.13018 -0.37204 -0.13018 -0.37777 -0.12879 C -0.38298 -0.1274 -0.38732 -0.12278 -0.39218 -0.12047 C -0.40642 -0.11376 -0.41944 -0.10706 -0.43333 -0.0992 C -0.44149 -0.08856 -0.45156 -0.08324 -0.46041 -0.07399 C -0.47638 -0.05758 -0.49166 -0.03954 -0.50798 -0.02313 C -0.52326 -0.00787 -0.53663 0.01271 -0.55086 0.02959 C -0.55937 0.03976 -0.56805 0.05248 -0.57951 0.05711 C -0.5894 0.06104 -0.60121 0.06219 -0.61111 0.06358 C -0.62534 0.06289 -0.63975 0.06289 -0.65399 0.0615 C -0.66041 0.0608 -0.67152 0.05086 -0.67152 0.05086 C -0.68211 0.0363 -0.67517 0.04439 -0.69374 0.02959 C -0.70069 0.02404 -0.70538 0.0141 -0.71111 0.00647 C -0.73367 -0.02359 -0.74895 -0.06289 -0.75729 -0.10359 C -0.75676 -0.11839 -0.75642 -0.13318 -0.75555 -0.14798 C -0.75503 -0.15746 -0.7526 -0.15792 -0.7493 -0.16694 C -0.7401 -0.19191 -0.72881 -0.19284 -0.70954 -0.19654 C -0.70381 -0.19584 -0.69774 -0.19677 -0.69218 -0.19446 C -0.69027 -0.19376 -0.6901 -0.19006 -0.68888 -0.18798 C -0.68749 -0.18567 -0.68558 -0.18405 -0.6842 -0.18174 C -0.67708 -0.1711 -0.6717 -0.15931 -0.6651 -0.14798 C -0.66128 -0.1274 -0.66284 -0.13665 -0.66041 -0.12047 C -0.66093 -0.09295 -0.66111 -0.06544 -0.66197 -0.03792 C -0.66319 -0.00162 -0.68871 0.02589 -0.70954 0.04439 C -0.71909 0.06312 -0.70624 0.03976 -0.71753 0.05502 C -0.71892 0.05687 -0.71944 0.05942 -0.72065 0.0615 C -0.72204 0.06381 -0.72395 0.06566 -0.72551 0.06774 C -0.74565 0.12231 -0.78281 0.15976 -0.79218 0.22196 C -0.79114 0.23052 -0.79131 0.2393 -0.78888 0.24739 C -0.78611 0.25664 -0.74965 0.27052 -0.7493 0.27075 C -0.72204 0.27861 -0.69774 0.29017 -0.66996 0.29387 C -0.66579 0.29526 -0.66163 0.29826 -0.65729 0.29826 C -0.62517 0.29826 -0.56301 0.30635 -0.53176 0.27075 C -0.52621 0.26427 -0.52343 0.25526 -0.51909 0.24739 C -0.51631 0.2326 -0.51058 0.22219 -0.50486 0.20948 C -0.4967 0.19144 -0.49166 0.1704 -0.47777 0.15861 C -0.46562 0.13687 -0.44479 0.12786 -0.42551 0.12277 C -0.4144 0.12346 -0.40329 0.1237 -0.39218 0.12485 C -0.38628 0.12554 -0.38038 0.13133 -0.37465 0.13317 C -0.36649 0.14057 -0.35729 0.14705 -0.3493 0.15445 C -0.33489 0.16786 -0.3217 0.18427 -0.30798 0.19884 C -0.30051 0.2067 -0.29097 0.21225 -0.28263 0.2178 C -0.27916 0.22011 -0.27638 0.22381 -0.27308 0.22635 C -0.26545 0.2319 -0.26371 0.22959 -0.25555 0.23468 C -0.23263 0.24878 -0.25676 0.2393 -0.23176 0.24739 C -0.21492 0.26034 -0.19548 0.26474 -0.17621 0.26867 C -0.13611 0.26682 -0.13819 0.27005 -0.1144 0.26219 C -0.10676 0.25572 -0.09947 0.25341 -0.09218 0.24531 C -0.08854 0.24138 -0.08628 0.23815 -0.0842 0.2326 C -0.0835 0.23052 -0.08367 0.22797 -0.08263 0.22635 C -0.07933 0.2208 -0.07517 0.21641 -0.07152 0.21156 C -0.06371 0.20115 -0.05902 0.18728 -0.05242 0.17549 C -0.05086 0.17271 -0.04774 0.16716 -0.04774 0.16716 C -0.04496 0.14057 -0.04843 0.16231 -0.04288 0.14381 C -0.04166 0.13965 -0.03975 0.13109 -0.03975 0.13109 C -0.03854 0.10427 -0.03975 0.09549 -0.0302 0.0763 C -0.02864 0.06982 -0.02673 0.06358 -0.02551 0.05711 C -0.02499 0.05433 -0.02534 0.05086 -0.02395 0.04878 C -0.01822 0.04 -0.00815 0.03607 -0.00173 0.02751 C -0.00069 0.02612 0.00139 0.02543 0.00157 0.02335 C 0.00261 0.01156 0.00157 -0.00047 0.00157 -0.01249 E">
                                      <p:cBhvr>
                                        <p:cTn id="24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7.51445E-007 C 0.00798 -0.05734 0.00173 -0.12254 0.0191 -0.17757 C 0.01962 -0.18381 0.01962 -0.19005 0.02066 -0.19653 C 0.0224 -0.20647 0.02604 -0.21595 0.02708 -0.22612 C 0.03021 -0.25572 0.03212 -0.28578 0.0382 -0.31468 C 0.04201 -0.38751 0.03715 -0.46011 0.03333 -0.53248 C 0.02899 -0.61271 0.0283 -0.69318 0.02396 -0.77341 C 0.02448 -0.78821 0.02379 -0.80323 0.02552 -0.8178 C 0.02587 -0.82034 0.02743 -0.81318 0.02865 -0.81133 C 0.03108 -0.80763 0.0342 -0.80485 0.03663 -0.80092 C 0.04028 -0.79491 0.04358 -0.78867 0.04618 -0.78173 C 0.0566 -0.75399 0.06597 -0.72624 0.07448 -0.69757 C 0.07656 -0.68254 0.07986 -0.6726 0.08108 -0.65711 C 0.08004 -0.49364 0.08004 -0.3304 0.07778 -0.1667 C 0.07708 -0.1163 0.07604 -0.05688 0.05868 -0.0104 C 0.04514 0.02682 0.04636 0.05249 0.02222 0.08486 C 0.00746 0.10451 -0.02935 0.11006 -0.04914 0.11237 C -0.08056 0.10983 -0.10452 0.10844 -0.13334 0.09758 C -0.1455 0.08648 -0.15782 0.07122 -0.16824 0.05734 C -0.17709 0.03307 -0.19341 0.01457 -0.20626 -0.00624 C -0.20886 -0.0104 -0.21234 -0.01387 -0.21425 -0.01896 C -0.22275 -0.04231 -0.21702 -0.02774 -0.23334 -0.06127 C -0.24098 -0.07699 -0.24046 -0.07953 -0.24602 -0.09479 C -0.24845 -0.10219 -0.25122 -0.10913 -0.25383 -0.11607 C -0.25487 -0.11861 -0.25713 -0.12439 -0.25713 -0.12439 C -0.26303 -0.15653 -0.26372 -0.19699 -0.2349 -0.20462 C -0.22709 -0.20994 -0.21928 -0.20971 -0.21112 -0.21341 C -0.13803 -0.21086 -0.06511 -0.20485 0.00798 -0.20277 C 0.07552 -0.20462 0.13177 -0.20485 0.19514 -0.21549 C 0.2217 -0.22497 0.2507 -0.23121 0.27465 -0.25133 C 0.28976 -0.26404 0.30035 -0.2837 0.31111 -0.30196 C 0.3375 -0.34682 0.34965 -0.39861 0.36667 -0.44994 C 0.37101 -0.50219 0.37188 -0.48439 0.36511 -0.54289 C 0.36406 -0.55237 0.36372 -0.56208 0.36042 -0.5704 C 0.34445 -0.61063 0.31424 -0.62682 0.28264 -0.63375 C 0.27674 -0.63306 0.27066 -0.63399 0.26493 -0.63167 C 0.26337 -0.63098 0.26337 -0.62728 0.26181 -0.62543 C 0.25868 -0.62104 0.25417 -0.61873 0.2507 -0.61479 C 0.23906 -0.60138 0.25382 -0.61688 0.24132 -0.59792 C 0.22986 -0.58104 0.23629 -0.59769 0.22865 -0.58104 C 0.22326 -0.57017 0.22136 -0.55676 0.21736 -0.5452 C 0.21007 -0.523 0.21476 -0.54705 0.20938 -0.52208 C 0.20712 -0.51029 0.2066 -0.49965 0.20313 -0.48832 C 0.19983 -0.45179 0.19618 -0.41295 0.20625 -0.37803 C 0.21007 -0.34867 0.21354 -0.33318 0.22396 -0.30636 C 0.22708 -0.29826 0.22934 -0.28832 0.23316 -0.28115 C 0.23524 -0.27676 0.23976 -0.26844 0.23976 -0.26844 C 0.24288 -0.25526 0.24757 -0.24323 0.2507 -0.23005 C 0.24948 -0.18127 0.25365 -0.14219 0.22396 -0.10982 C 0.21632 -0.1015 0.1974 -0.09479 0.18733 -0.09271 C 0.17882 -0.09133 0.16198 -0.08855 0.16198 -0.08855 C 0.13333 -0.07445 0.09913 -0.08578 0.0684 -0.08208 C 0.06406 -0.07953 0.05955 -0.07884 0.05556 -0.07584 C 0.05226 -0.07375 0.04965 -0.06959 0.04618 -0.06751 C 0.0441 -0.06612 0.04184 -0.06451 0.03976 -0.06312 C 0.03767 -0.06058 0.03559 -0.05734 0.03333 -0.05479 C 0.03195 -0.05295 0.03004 -0.05225 0.02865 -0.0504 C 0.02413 -0.04532 0.02101 -0.03792 0.01597 -0.03352 C 0.01129 -0.02959 0.00329 -0.01896 0.00329 -0.01896 C 0.00069 -0.00855 0.00207 -0.01456 -5E-006 7.51445E-007 Z">
                                      <p:cBhvr>
                                        <p:cTn id="28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nvention: Slin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9360">
            <a:solidFill>
              <a:srgbClr val="66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99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Kristen ITC"/>
              </a:rPr>
              <a:t>400 slinkys were sold in 90 minutes. This still continues toda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0099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99"/>
                </a:solidFill>
                <a:latin typeface="Kristen ITC"/>
              </a:rPr>
              <a:t>Children, teachers, and even NASA use slinky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99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Kristen ITC"/>
              </a:rPr>
              <a:t>The slinky was an accidental invention. In 1943, Richard James was in his home laboratory when he accidentally knocked one of his springs off a shelf. James saw how the springs moved and “stepped</a:t>
            </a:r>
            <a:r>
              <a:rPr b="0" lang="en-US" sz="2200" spc="-1" strike="noStrike">
                <a:solidFill>
                  <a:srgbClr val="990099"/>
                </a:solidFill>
                <a:latin typeface="Kristen ITC"/>
              </a:rPr>
              <a:t>”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0099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99"/>
                </a:solidFill>
                <a:latin typeface="Kristen ITC"/>
              </a:rPr>
              <a:t>Richard’s wife saw the spring device as a plaything, so she was the one who named it “Slinky”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99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Kristen ITC"/>
              </a:rPr>
              <a:t>The Jameses founded James Industries. Richard invented machines that could coil 80 feet of steel wire into a Slinky into a slinky in about 10 secon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467480" y="5791320"/>
            <a:ext cx="762120" cy="86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09480" y="380880"/>
            <a:ext cx="533520" cy="124632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3.17919E-006 C -0.0026 -0.03306 0.00174 -0.00855 -0.00625 -0.02751 C -0.00694 -0.0289 -0.00937 -0.04162 -0.00955 -0.04231 C -0.0125 -0.05456 -0.01545 -0.06636 -0.01892 -0.07861 C -0.02066 -0.09133 -0.0243 -0.09873 -0.02847 -0.11006 C -0.03229 -0.12069 -0.03524 -0.13272 -0.03802 -0.14381 C -0.04184 -0.1593 -0.04375 -0.18266 -0.05226 -0.19491 C -0.0559 -0.20832 -0.05885 -0.22081 -0.0651 -0.23283 C -0.06736 -0.24208 -0.06962 -0.25248 -0.07135 -0.26219 C -0.07361 -0.27491 -0.07396 -0.28832 -0.08246 -0.29595 C -0.08507 -0.30659 -0.09097 -0.31191 -0.09514 -0.32139 C -0.10382 -0.34127 -0.11128 -0.3667 -0.12378 -0.38266 C -0.12865 -0.39607 -0.13715 -0.40532 -0.14444 -0.41665 C -0.15382 -0.43144 -0.16111 -0.44948 -0.17135 -0.46335 C -0.17378 -0.46659 -0.17708 -0.46844 -0.17934 -0.47167 C -0.18194 -0.47537 -0.18316 -0.48046 -0.18559 -0.48416 C -0.1901 -0.49087 -0.19427 -0.49826 -0.2 -0.50312 C -0.2026 -0.5052 -0.20555 -0.50682 -0.20781 -0.50983 C -0.21042 -0.5126 -0.21198 -0.51676 -0.21424 -0.52023 C -0.22014 -0.52925 -0.21892 -0.52532 -0.22691 -0.53503 C -0.23785 -0.54867 -0.24861 -0.5667 -0.26337 -0.57295 C -0.26597 -0.58266 -0.27378 -0.58913 -0.27934 -0.5963 C -0.28281 -0.60092 -0.28698 -0.60439 -0.29045 -0.60902 C -0.29236 -0.61156 -0.29323 -0.6148 -0.29514 -0.61734 C -0.29913 -0.62266 -0.30642 -0.62566 -0.31111 -0.63006 C -0.32014 -0.64809 -0.33299 -0.66173 -0.34601 -0.67445 C -0.35625 -0.68439 -0.3691 -0.68994 -0.37934 -0.69988 C -0.39219 -0.71237 -0.40295 -0.73017 -0.41736 -0.73988 C -0.4342 -0.75144 -0.45347 -0.75537 -0.47135 -0.76324 C -0.4809 -0.7674 -0.47847 -0.76809 -0.48889 -0.77179 C -0.50833 -0.77873 -0.5283 -0.78173 -0.54757 -0.78867 C -0.56337 -0.79422 -0.57899 -0.80046 -0.59514 -0.80347 C -0.6408 -0.82335 -0.68819 -0.83514 -0.73646 -0.83514 E">
                                      <p:cBhvr>
                                        <p:cTn id="34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6.47399E-006 C 0.00573 0.00069 0.01181 -6.47398999999984E-006 0.01736 0.00207 C 0.02431 0.00462 0.03004 0.01063 0.03646 0.01479 C 0.05868 0.02936 0.07778 0.05155 0.09827 0.06982 C 0.10278 0.07398 0.10799 0.07629 0.11268 0.08022 C 0.13629 0.10011 0.15886 0.12161 0.18247 0.1415 C 0.20104 0.15722 0.21875 0.17595 0.23802 0.19028 C 0.24306 0.19421 0.24913 0.19583 0.25382 0.20069 C 0.25868 0.20554 0.26285 0.21179 0.26823 0.21548 C 0.27136 0.21757 0.27483 0.21918 0.27778 0.22196 C 0.28021 0.22427 0.2816 0.22797 0.28403 0.23028 C 0.28698 0.23306 0.29063 0.23421 0.29358 0.23676 C 0.29705 0.23976 0.29966 0.24416 0.30313 0.24739 C 0.32188 0.2645 0.34097 0.27999 0.36025 0.29595 C 0.36962 0.30381 0.38299 0.31953 0.39045 0.32762 C 0.40521 0.34404 0.42136 0.35976 0.43629 0.37618 C 0.43907 0.37918 0.44306 0.38011 0.44584 0.38265 C 0.46129 0.39583 0.47691 0.40947 0.49341 0.42057 C 0.49757 0.42335 0.50209 0.42427 0.50608 0.42705 C 0.53212 0.44531 0.55469 0.47306 0.58091 0.4904 C 0.58472 0.49317 0.58959 0.49387 0.59358 0.49664 C 0.6099 0.50751 0.59653 0.50219 0.61094 0.51375 C 0.61615 0.51768 0.62188 0.51999 0.62691 0.52416 C 0.6474 0.5408 0.66719 0.5593 0.68716 0.5771 C 0.69896 0.58751 0.71077 0.61202 0.71875 0.62566 C 0.725 0.6356 0.73316 0.64601 0.73785 0.65733 C 0.74341 0.66982 0.74809 0.68346 0.75556 0.6934 C 0.7592 0.7082 0.76563 0.71884 0.77275 0.73132 C 0.78212 0.74705 0.77309 0.7378 0.78229 0.74612 C 0.78472 0.75537 0.79063 0.76416 0.7967 0.76947 C 0.79809 0.77271 0.81111 0.79375 0.81111 0.79699 E">
                                      <p:cBhvr>
                                        <p:cTn id="38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99"/>
                </a:solidFill>
                <a:latin typeface="Arial"/>
              </a:rPr>
              <a:t>Inventor: Richard Ja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9360">
            <a:solidFill>
              <a:srgbClr val="99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Kristen ITC"/>
              </a:rPr>
              <a:t>Richard James was an engine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Kristen ITC"/>
              </a:rPr>
              <a:t>He worked out of his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Kristen ITC"/>
              </a:rPr>
              <a:t>He lived in greater Philadelph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Kristen ITC"/>
              </a:rPr>
              <a:t>James first sold the Slinky at the Gimbels Department store in downtown Philadelph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Kristen ITC"/>
              </a:rPr>
              <a:t>Richard’s factory can be found in Hollidaysburg, Pennsylvan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696080" y="5410080"/>
            <a:ext cx="1219320" cy="1117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17919E-006 C 0.01441 -0.00462 0.00851 -0.00208 0.01753 -0.00601 C 0.0224 -0.01318 0.0283 -0.01665 0.03177 -0.0252 C 0.03455 -0.03237 0.03976 -0.04624 0.03976 -0.04624 C 0.04219 -0.05942 0.04427 -0.07306 0.04601 -0.08647 C 0.04566 -0.09225 0.04549 -0.11537 0.04132 -0.12254 C 0.02431 -0.15075 -0.00833 -0.15607 -0.03333 -0.16277 C -0.03976 -0.16208 -0.04618 -0.16277 -0.05243 -0.16069 C -0.05712 -0.15884 -0.06163 -0.14428 -0.06354 -0.13919 C -0.06476 -0.12902 -0.06701 -0.11792 -0.06354 -0.10751 C -0.06163 -0.1022 -0.05399 -0.0948 -0.05399 -0.0948 C -0.05139 -0.08439 -0.04635 -0.08624 -0.03976 -0.08023 C -0.02622 -0.08231 -0.02205 -0.08416 -0.01424 -0.09942 C -0.00885 -0.12832 -0.02187 -0.14358 -0.04132 -0.15006 C -0.06337 -0.14821 -0.07031 -0.15283 -0.08247 -0.1311 C -0.08542 -0.1126 -0.08889 -0.09688 -0.09045 -0.07792 C -0.08993 -0.06589 -0.09028 -0.0541 -0.08889 -0.04231 C -0.08819 -0.03561 -0.0809 -0.03144 -0.07778 -0.02959 C -0.0658 -0.02243 -0.05816 -0.02058 -0.04444 -0.01896 C -0.03108 -0.02243 -0.03229 -0.02381 -0.0349 -0.04416 C -0.03524 -0.04624 -0.03542 -0.04879 -0.03646 -0.05063 C -0.04028 -0.05688 -0.04878 -0.05734 -0.05399 -0.05919 C -0.06146 -0.06127 -0.06875 -0.06474 -0.07622 -0.06728 C -0.08212 -0.07306 -0.08628 -0.07399 -0.09358 -0.07584 C -0.09844 -0.07514 -0.1033 -0.07561 -0.10799 -0.07376 C -0.11233 -0.0726 -0.11267 -0.06844 -0.1158 -0.0652 C -0.11892 -0.06243 -0.12205 -0.05942 -0.12535 -0.05688 C -0.12743 -0.05549 -0.12986 -0.05457 -0.13177 -0.05272 C -0.13698 -0.04763 -0.13924 -0.04069 -0.14444 -0.03561 C -0.14653 -0.02751 -0.14774 -0.02035 -0.15087 -0.01248 C -0.15417 0.00532 -0.16146 0.03607 -0.14757 0.04856 C -0.1401 0.05526 -0.1309 0.05549 -0.12222 0.05711 C -0.09635 0.05249 -0.09705 0.05919 -0.09201 0.03168 C -0.09253 0.02682 -0.09184 0.0215 -0.09358 0.01711 C -0.09427 0.01503 -0.09705 0.01364 -0.09844 0.01503 C -0.10017 0.01688 -0.09931 0.02058 -0.1 0.02358 C -0.10174 0.03006 -0.10451 0.03607 -0.10642 0.04231 C -0.10694 0.04694 -0.10972 0.06613 -0.11267 0.07006 C -0.11441 0.07237 -0.11701 0.07283 -0.1191 0.07422 C -0.13663 0.06983 -0.15069 0.06983 -0.16354 0.05318 C -0.16528 0.04809 -0.16979 0.03861 -0.16979 0.03168 C -0.16979 0.01896 -0.17083 0.00601 -0.16823 -0.00601 C -0.16424 -0.02451 -0.14045 -0.02566 -0.13021 -0.02751 C -0.12222 -0.02589 -0.11406 -0.02636 -0.10642 -0.02312 C -0.10399 -0.02173 -0.10278 -0.0178 -0.10156 -0.01457 C -0.09653 -0.00139 -0.09253 0.01503 -0.09045 0.0296 C -0.09219 0.0615 -0.08819 0.05341 -0.09844 0.06798 C -0.10104 0.06728 -0.10417 0.06775 -0.10642 0.0659 C -0.11719 0.05665 -0.11007 0.03283 -0.10312 0.02358 C -0.09687 0.01503 -0.0875 0.01434 -0.07934 0.01295 C -0.04618 0.0185 -0.04722 0.00925 -0.03333 0.03376 C -0.03142 0.04393 -0.02986 0.07723 -0.03802 0.08486 C -0.04722 0.09341 -0.05052 0.09318 -0.06024 0.09549 C -0.07587 0.09064 -0.07656 0.09295 -0.07934 0.07422 C -0.07569 0.04463 -0.0809 0.03491 -0.06354 0.02567 C -0.04601 0.02636 -0.02847 0.02497 -0.01111 0.02752 C 0.00139 0.0296 0.01302 0.03746 0.02535 0.04023 C 0.03177 0.04532 0.04219 0.04601 0.04444 0.05526 C 0.04549 0.05942 0.04653 0.06382 0.04757 0.06798 C 0.04809 0.07006 0.04913 0.07422 0.04913 0.07422 C 0.0474 0.09341 0.04896 0.09318 0.03646 0.09965 C 0.03125 0.09896 0.02535 0.10104 0.02066 0.09757 C 0.01823 0.09572 0.01892 0.09064 0.0191 0.08694 C 0.01979 0.0696 0.02049 0.05387 0.03177 0.04231 C 0.04323 0.03098 0.05104 0.02821 0.0651 0.02567 C 0.06875 0.02636 0.07309 0.02497 0.07622 0.02752 C 0.07813 0.02913 0.07778 0.03306 0.07778 0.03607 C 0.07778 0.05272 0.07413 0.05804 0.06354 0.06358 C 0.05799 0.0622 0.05139 0.06197 0.04757 0.05526 C 0.04531 0.05087 0.0434 0.04671 0.04132 0.04231 C 0.04028 0.04023 0.03802 0.03607 0.03802 0.03607 C 0.03559 0.02613 0.03212 0.01595 0.02865 0.00647 C 0.02813 0.00185 0.02483 -0.01711 0.02865 -0.02312 C 0.02969 -0.02451 0.03177 -0.02173 0.03333 -0.02104 C 0.03281 -0.01665 0.03316 -0.01202 0.03177 -0.00809 C 0.02847 0.00046 0.00573 0.00532 3.33333E-006 0.00647 C -0.01059 0.0111 -0.02135 0.01387 -0.03021 0.00208 C -0.03229 -0.00601 -0.03802 -0.02104 -0.03802 -0.02104 C -0.03958 -0.03607 -0.04479 -0.04809 -0.03177 -0.05272 C -0.02969 -0.05133 -0.02587 -0.05133 -0.02535 -0.04855 C -0.02205 -0.03168 -0.02622 -0.02913 -0.03177 -0.01896 C -0.0441 0.00393 -0.06753 0.01041 -0.08733 0.01503 C -0.09531 0.01434 -0.1033 0.01387 -0.11111 0.01295 C -0.11649 0.01202 -0.12535 0.00208 -0.12535 0.00208 C -0.13194 -0.00994 -0.13976 -0.0178 -0.13177 -0.03561 C -0.13021 -0.03954 -0.12535 -0.03699 -0.12222 -0.03769 C -0.1191 -0.03954 -0.10972 -0.04555 -0.10799 -0.03561 C -0.10625 -0.02566 -0.11788 0.00578 -0.12378 0.01503 C -0.12951 0.02358 -0.13785 0.03168 -0.14601 0.03607 C -0.14913 0.03769 -0.15243 0.03884 -0.15556 0.04023 C -0.15712 0.04093 -0.16024 0.04231 -0.16024 0.04231 C -0.16615 0.04162 -0.17205 0.04231 -0.17778 0.04023 C -0.18038 0.03931 -0.18194 0.03561 -0.1842 0.03376 C -0.18872 0.03029 -0.19062 0.0296 -0.19531 0.02752 C -0.19653 0.02428 -0.20035 0.01503 -0.2 0.01064 C -0.19913 0.00139 -0.19792 -0.00809 -0.19531 -0.01665 C -0.18958 -0.03561 -0.16024 -0.04347 -0.14601 -0.04624 C -0.13281 -0.04555 -0.1191 -0.04948 -0.10642 -0.04416 C -0.09687 -0.04023 -0.09687 -0.00601 -0.09687 -0.00601 C -0.0974 -0.00139 -0.09583 0.00509 -0.09844 0.00856 C -0.10035 0.0111 -0.1 0.00185 -0.1 -0.00208 C -0.1 -0.00393 -0.09931 -0.00647 -0.09844 -0.00809 C -0.09479 -0.01665 -0.09132 -0.02566 -0.08733 -0.03376 C -0.07691 -0.0548 -0.06076 -0.06381 -0.04288 -0.06728 C -0.0375 -0.06589 -0.03194 -0.06589 -0.02691 -0.06335 C -0.02465 -0.06196 -0.01649 -0.03376 -0.0158 -0.03168 C -0.01424 -0.0185 -0.01285 -0.01433 -0.0158 3.17919E-006 C -0.01701 0.00578 -0.02552 0.00717 -0.02865 0.00856 C -0.05122 0.00532 -0.04618 0.00278 -0.04288 -0.03561 C -0.03993 -0.07052 -0.02691 -0.10266 3.33333E-006 -0.10983 C 0.02049 -0.10589 0.03056 -0.10266 0.04601 -0.08439 C 0.05278 -0.07653 0.0651 -0.05919 0.0651 -0.05919 C 0.0658 -0.05688 0.07396 -0.02566 0.06979 -0.04855 C 0.07118 -0.07121 0.07465 -0.09341 0.07622 -0.11607 C 0.08021 -0.17272 0.07205 -0.15399 0.08247 -0.17526 C 0.08108 -0.14566 0.0809 -0.12393 0.05712 -0.11607 C 0.05243 -0.11746 0.04705 -0.11676 0.04288 -0.12046 C 0.03993 -0.123 0.03819 -0.14381 0.03802 -0.14566 C 0.03958 -0.17503 0.03542 -0.1852 0.05556 -0.19422 C 0.05868 -0.19283 0.06458 -0.19445 0.0651 -0.19029 C 0.06823 -0.16485 0.06736 -0.13896 0.04913 -0.1311 C 0.03698 -0.13179 0.02431 -0.12855 0.01267 -0.13295 C 0.00938 -0.13433 0.00955 -0.14566 0.00955 -0.14566 C 0.01042 -0.1704 0.00313 -0.19954 0.02378 -0.20694 C 0.02691 -0.20809 0.03021 -0.20832 0.03333 -0.20902 C 0.05347 -0.20485 0.05156 -0.20902 0.05868 -0.19029 C 0.0599 -0.17988 0.06302 -0.17063 0.06024 -0.16069 C 0.05503 -0.16208 0.04931 -0.16185 0.04444 -0.16462 C 0.025 -0.17711 0.00052 -0.2037 -0.00469 -0.23237 C -0.00417 -0.23722 -0.00573 -0.2437 -0.00312 -0.24717 C 0.00087 -0.25248 0.01267 -0.25549 0.01267 -0.25549 C 0.0158 -0.2548 0.01979 -0.25618 0.02222 -0.25341 C 0.02483 -0.2504 0.02396 -0.24485 0.02535 -0.24092 C 0.02622 -0.23838 0.0276 -0.23653 0.02865 -0.23445 C 0.02813 -0.23376 0.02274 -0.2252 0.02066 -0.22798 C 0.0184 -0.23121 0.01858 -0.23653 0.01753 -0.24092 C 0.01615 -0.24647 0.01059 -0.25087 0.00799 -0.25549 C -0.00521 -0.27815 0.00747 -0.26035 -0.00312 -0.27445 C -0.00521 -0.28324 -0.00885 -0.29225 -0.01267 -0.29988 C -0.01649 -0.31537 -0.01493 -0.30821 -0.01753 -0.32116 C -0.0191 -0.3489 -0.0191 -0.37572 -0.0158 -0.40347 C -0.01458 -0.42636 -0.01476 -0.43376 -0.00799 -0.45225 C -0.00625 -0.46196 -0.00556 -0.47191 -0.00312 -0.48185 C -0.00191 -0.49503 -0.00017 -0.50682 0.00156 -0.52 C 0.00243 -0.5267 0.00226 -0.53433 0.00469 -0.54081 C 0.01146 -0.55861 0.01528 -0.57873 0.0191 -0.59792 C 0.02205 -0.61272 0.02517 -0.62774 0.02865 -0.64231 C 0.03021 -0.64879 0.03333 -0.6615 0.03333 -0.6615 C 0.03715 -0.70196 0.03646 -0.69572 0.03646 -0.75861 E">
                                      <p:cBhvr>
                                        <p:cTn id="74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65896E-006 C -0.00312 -0.00139 -0.0099 0.00023 -0.00955 -0.00416 C -0.00833 -0.02104 -0.00833 -0.0333 3.33333E-006 -0.04648 C 0.00503 -0.05434 0.02066 -0.06127 0.02066 -0.06127 C 0.0408 -0.05526 0.04271 -0.06035 0.04601 -0.03815 C 0.04497 -0.0252 0.04844 0.01873 0.03003 -0.00648 C 0.02969 -0.01064 0.02951 -0.0148 0.02865 -0.01896 C 0.02795 -0.02266 0.02535 -0.02567 0.02535 -0.0296 C 0.02535 -0.03168 0.03299 -0.05272 0.03333 -0.05295 C 0.03785 -0.0585 0.04913 -0.06567 0.04913 -0.06567 C 0.06007 -0.06428 0.0717 -0.06497 0.08247 -0.06127 C 0.09583 -0.05665 0.10503 -0.02451 0.10955 -0.01064 C 0.11181 0.01433 0.11337 0.01873 0.10799 0.04439 C 0.10747 0.04647 0.10764 0.04902 0.10642 0.05063 C 0.1026 0.05572 0.09392 0.05757 0.08889 0.05919 C 0.07639 0.05641 0.07465 0.05295 0.0651 0.04439 C 0.06458 0.04092 0.06267 0.03722 0.06354 0.03376 C 0.0651 0.02728 0.07431 0.03561 0.07465 0.03584 C 0.07413 0.04069 0.07483 0.04624 0.07309 0.05063 C 0.06892 0.06081 0.05799 0.0615 0.05087 0.06335 C 0.04063 0.06196 0.01545 0.05942 0.00313 0.05503 C -0.00069 0.05364 -0.00417 0.05017 -0.00799 0.04855 C -0.0099 0.03792 -0.01111 0.03653 -0.00799 0.02312 C -0.00747 0.02127 -0.00417 0.01711 -0.00469 0.01896 C -0.00816 0.03306 -0.01597 0.03376 -0.02535 0.03584 C -0.05885 0.02913 -0.0526 0.03006 -0.07778 0.01688 C -0.08455 0.00786 -0.08559 0.00231 -0.09045 -0.00856 C -0.09479 -0.05018 -0.09462 -0.03468 -0.09201 -0.08671 C -0.09097 -0.10752 -0.08437 -0.12786 -0.06823 -0.13318 C -0.06181 -0.1311 -0.05486 -0.13133 -0.04913 -0.12694 C -0.0467 -0.12509 -0.04722 -0.11977 -0.04601 -0.1163 C -0.04462 -0.11191 -0.04288 -0.10775 -0.04132 -0.10359 C -0.03993 -0.09087 -0.03715 -0.08 -0.0349 -0.06775 C -0.03542 -0.06567 -0.0349 -0.0622 -0.03646 -0.06127 C -0.04375 -0.05757 -0.04358 -0.06728 -0.04444 -0.07191 C -0.0434 -0.08393 -0.04531 -0.0911 -0.03646 -0.09734 C -0.02986 -0.10197 -0.01597 -0.10775 -0.01597 -0.10775 C -0.00035 -0.10659 0.01389 -0.1089 0.02691 -0.09734 C 0.03038 -0.08439 0.03299 -0.07075 0.0349 -0.05711 C 0.03281 -0.02197 0.03802 -0.02359 0.01267 -0.0296 C 0.0066 -0.05018 0.00764 -0.06035 0.02222 -0.06983 C 0.0375 -0.06844 0.05313 -0.06913 0.06823 -0.06567 C 0.07344 -0.06451 0.07726 -0.05757 0.08247 -0.05503 C 0.0901 -0.03538 0.0934 -0.03353 0.08733 -0.00648 C 0.08681 -0.00439 0.07813 -0.00093 0.07622 2.65896E-006 C 0.06042 -0.00347 0.04653 -0.00578 0.0349 -0.02127 C 0.02882 -0.04463 0.03507 -0.0659 0.05382 -0.07191 C 0.06406 -0.07052 0.07431 -0.07052 0.0842 -0.06775 C 0.10365 -0.0622 0.12014 -0.03723 0.12865 -0.0148 C 0.12483 0.0067 0.11979 0.02243 0.10313 0.02959 C 0.09688 0.02821 0.09028 0.02821 0.0842 0.02543 C 0.08056 0.02381 0.07465 0.01688 0.07465 0.01688 C 0.06788 -0.01018 0.08333 -0.01642 0.09844 -0.02335 C 0.11875 -0.02058 0.12934 -0.02382 0.14288 -0.00648 C 0.15226 0.01942 0.13767 0.04647 0.1191 0.05272 C 0.10799 0.05063 0.09688 0.04855 0.08576 0.04647 C 0.0816 0.04578 0.07708 0.04624 0.07309 0.04439 C 0.06927 0.04277 0.06701 0.03815 0.06354 0.03584 C 0.05625 0.03098 0.04965 0.02959 0.04288 0.02312 C 0.03767 0.00231 0.04757 0.00878 0.05868 0.01063 C 0.05764 0.0148 0.05747 0.01965 0.05556 0.02312 C 0.05417 0.02566 0.05122 0.02589 0.04913 0.02751 C 0.04323 0.03214 0.03837 0.03561 0.03177 0.03792 C 0.00556 0.03214 -0.01701 0.02913 -0.03038 -0.00416 C -0.03646 -0.03815 -0.00937 -0.02058 0.00469 -0.01688 C 0.0309 0.01087 0.02153 -0.00139 0.0349 0.01688 C 0.04479 0.05641 -0.00833 0.04185 -0.01753 0.04231 C -0.025 0.04162 -0.03281 0.04393 -0.03976 0.04023 C -0.04219 0.03884 -0.03594 0.03422 -0.03333 0.03376 C -0.02865 0.03283 -0.02378 0.03514 -0.0191 0.03584 C -0.02292 0.05618 -0.02483 0.06682 -0.04132 0.07399 C -0.0434 0.07329 -0.04583 0.07376 -0.04757 0.07191 C -0.05069 0.06844 -0.04844 0.05087 -0.04757 0.04855 C -0.04653 0.04601 -0.0434 0.04717 -0.04132 0.04647 C -0.03924 0.04855 -0.03576 0.04948 -0.0349 0.05272 C -0.03385 0.05618 -0.03524 0.06011 -0.03646 0.06335 C -0.04097 0.0763 -0.04531 0.08832 -0.05556 0.09295 C -0.05712 0.09225 -0.05955 0.09295 -0.06024 0.09087 C -0.06372 0.08162 -0.06667 0.06127 -0.06667 0.06127 C -0.0651 0.04717 -0.06389 0.03306 -0.06215 0.01896 C -0.06128 0.01387 -0.06111 0.00809 -0.05868 0.00416 C -0.05226 -0.00601 -0.0434 -0.00694 -0.0349 -0.01064 C -0.02483 -0.00925 -0.01424 -0.01133 -0.00469 -0.00648 C -0.00156 -0.00486 -0.00156 0.00624 -0.00156 0.00624 C -0.00312 0.00763 -0.00451 0.0111 -0.00642 0.01063 C -0.01059 0.00994 -0.01389 0.00185 -0.01597 -0.00208 C -0.01632 -0.00486 -0.01701 -0.00786 -0.01753 -0.01064 C -0.01858 -0.0148 -0.02066 -0.02335 -0.02066 -0.02335 C -0.01962 -0.03098 -0.02257 -0.04278 -0.01753 -0.04648 C -0.00955 -0.05272 0.00677 -0.04416 0.0158 -0.04023 C 0.01944 -0.03653 0.03368 -0.02636 0.02535 -0.01688 C 0.02292 -0.01411 0.01892 -0.01549 0.0158 -0.0148 C 0.00052 -0.01919 -0.01528 -0.02243 -0.02865 -0.03376 C -0.02986 -0.03885 -0.03333 -0.04324 -0.03333 -0.04856 C -0.03333 -0.07191 -0.0283 -0.07145 -0.01424 -0.07607 C 0.01337 -0.07399 0.04132 -0.07399 0.06198 -0.04648 C 0.06094 -0.04023 0.06181 -0.0326 0.05868 -0.02752 C 0.05017 -0.01341 0.03698 -0.01364 0.02535 -0.01064 C 0.00399 -0.01387 -0.01424 -0.0185 -0.0349 -0.02544 C -0.0401 -0.02728 -0.04566 -0.02752 -0.05087 -0.0296 C -0.05781 -0.03237 -0.07135 -0.04023 -0.07135 -0.04023 C -0.07517 -0.04509 -0.08038 -0.04948 -0.07309 -0.05919 C -0.07135 -0.0615 -0.07083 -0.05364 -0.06979 -0.05087 C -0.07309 -0.04278 -0.07674 -0.03307 -0.0809 -0.02544 C -0.09167 -0.00555 -0.08056 -0.03307 -0.08889 -0.01064 C -0.07483 0.00878 -0.05486 -0.02104 -0.04913 0.00624 C -0.04913 0.00693 -0.05156 0.02497 -0.05243 0.02751 C -0.05469 0.03352 -0.06024 0.04439 -0.06024 0.04439 C -0.06215 0.05665 -0.06441 0.06821 -0.06667 0.08023 C -0.07222 0.15653 -0.06215 0.24347 -0.0809 0.31907 C -0.08194 0.32971 -0.08316 0.34035 -0.0842 0.35098 C -0.08472 0.35584 -0.08576 0.36578 -0.08576 0.36578 C -0.08524 0.39376 -0.07986 0.61063 -0.07934 0.61295 C -0.0717 0.67468 -0.07465 0.74289 -0.07465 0.80532 E">
                                      <p:cBhvr>
                                        <p:cTn id="78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3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7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1T17:55:12Z</dcterms:created>
  <dc:creator>install</dc:creator>
  <dc:description/>
  <dc:language>en-US</dc:language>
  <cp:lastModifiedBy>install</cp:lastModifiedBy>
  <dcterms:modified xsi:type="dcterms:W3CDTF">2011-06-01T17:36:54Z</dcterms:modified>
  <cp:revision>12</cp:revision>
  <dc:subject/>
  <dc:title>Slide 1</dc:title>
</cp:coreProperties>
</file>